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13238-F9EB-4290-AB0B-C4CAFFA02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395280" y="148392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53311-B106-450F-B0E3-8F065F0FE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6A769-A5EE-4772-939D-E406F671D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39528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198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440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39528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198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440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A0629-FD92-44AA-BBD5-348152DB2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21F21-AE0F-46F6-BE55-DBD3FD1838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395280" y="1483920"/>
            <a:ext cx="8353440" cy="4969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F12D3-10DA-4579-8DA9-53B30D674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ED5F-1F5E-4049-BB8C-8C24765D0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C46F6A-9D6D-45BC-8676-435BF01A6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B95B-2E16-4F11-BBC3-A8EE1FF12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5280" y="476280"/>
            <a:ext cx="8353440" cy="3335400"/>
          </a:xfrm>
          <a:prstGeom prst="rect">
            <a:avLst/>
          </a:prstGeom>
          <a:noFill/>
          <a:ln w="0">
            <a:noFill/>
          </a:ln>
        </p:spPr>
        <p:txBody>
          <a:bodyPr lIns="0" rIns="0" tIns="0" bIns="0" anchor="ctr">
            <a:noAutofit/>
          </a:bodyPr>
          <a:p>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C3B9D-66A3-4B3A-AB81-693991DEF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B579F-C222-483C-A332-98AC03D48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395280" y="1483920"/>
            <a:ext cx="8353440" cy="49690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BA4C7-9CFF-4B4D-B3B0-732A92D54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30ED-F317-4202-AAFA-29B8BC169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EB0BB7-8477-4FA4-A404-CCCD48FE0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395280" y="148392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53CB7-95CD-41DF-8695-4CC50B086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996BAB-0BC8-4948-94FC-554645183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39528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2198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6044040" y="148392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39528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2198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6044040" y="4079880"/>
            <a:ext cx="268956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BE8F9-0675-4BF8-BBF5-8E755143E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4163A-7DD8-478D-A300-3B338D9AB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20841-4BFD-4BFD-9F98-48BCD3BF3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1CB48-C5AF-4245-BD9F-E08C464DB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5280" y="476280"/>
            <a:ext cx="8353440" cy="3335400"/>
          </a:xfrm>
          <a:prstGeom prst="rect">
            <a:avLst/>
          </a:prstGeom>
          <a:noFill/>
          <a:ln w="0">
            <a:noFill/>
          </a:ln>
        </p:spPr>
        <p:txBody>
          <a:bodyPr lIns="0" rIns="0" tIns="0" bIns="0" anchor="ctr">
            <a:noAutofit/>
          </a:bodyPr>
          <a:p>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AD6A0-3784-4959-B6C8-20B39518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56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3952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0172-BAF8-42D0-96F6-356792C1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395280" y="1483920"/>
            <a:ext cx="4076280" cy="496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5680" y="407988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B97C3-21C9-431A-926E-95F17349B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3952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5680" y="1483920"/>
            <a:ext cx="407628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395280" y="4079880"/>
            <a:ext cx="8353440" cy="2370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D86E6-DF79-4641-B8B1-1AD2E594D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FE92C-ED81-49BF-873E-BCEE756ACF6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6040" y="4149720"/>
            <a:ext cx="885672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lick to edit the title text format</a:t>
            </a:r>
            <a:endParaRPr b="0" lang="en-US" sz="38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5226-D51A-4F19-9B25-D45CE6CB4D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d1800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d1800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d1800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n.wikipedia.org/wiki/United_States"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6040" y="4149720"/>
            <a:ext cx="8856720" cy="8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harles Manson</a:t>
            </a:r>
            <a:endParaRPr b="0" lang="en-US" sz="3800" spc="-1" strike="noStrike">
              <a:solidFill>
                <a:srgbClr val="ffffff"/>
              </a:solidFill>
              <a:latin typeface="Arial"/>
            </a:endParaRPr>
          </a:p>
        </p:txBody>
      </p:sp>
      <p:sp>
        <p:nvSpPr>
          <p:cNvPr id="83" name="PlaceHolder 2"/>
          <p:cNvSpPr>
            <a:spLocks noGrp="1"/>
          </p:cNvSpPr>
          <p:nvPr>
            <p:ph type="subTitle"/>
          </p:nvPr>
        </p:nvSpPr>
        <p:spPr>
          <a:xfrm>
            <a:off x="178920" y="5132160"/>
            <a:ext cx="8836200" cy="6490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VHS Forensic Science</a:t>
            </a:r>
            <a:endParaRPr b="0" lang="en-US" sz="32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fter temporarily honoring parole conditions to live with his aunt and uncle in West Virginia, he moved in with his mother in the same state</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nuary 1955, he married Rosalie Jean Willis, a hospital nutritionist who he found “a genuine, marital happiness” with</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supported her with smalltime jobs and auto thef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October, three months after his pregnant wife arrived in LA in a stolen car, Manson was charged again with interstate transfer of a stolen vehicle</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psychiatric evaluation, he was given 5 years probation</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failure to appear in the LA hearing on an identical charge filed in Florida resulted in his March 1956 arrest in Indianapoli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probation was revoked and he was sentenced to 3 years in Terminal Island in San Pedro C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s son, Charles Manson, Jr, was born while Manson was in priso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1957, Manson’s mother informed him that Rosalie was living with another ma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ght trying to escape in another stolen car, less than two weeks before a parole hearing, his parole was denied and he was given 5 more years of probatio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received five years probation after his parole hearing in September of 1958 the same year he filed for divorce from Rosali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November, he was pimping a 16-year old girl and was receiving financial support from a girl with wealthy parent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plead guilty in 1959 of a charge of forging a US Treasury check, he received a 10 month suspended sentence and probation after a young woman tearfully told the court that she would marry Manson if he were free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Manson took that woman and another from CA to NM for prostitution purposes, he was held and questioned for violation of the Mann Ac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ann Act</a:t>
            </a:r>
            <a:endParaRPr b="0" lang="en-US" sz="4000" spc="-1" strike="noStrike">
              <a:solidFill>
                <a:srgbClr val="ffffff"/>
              </a:solidFill>
              <a:latin typeface="Arial"/>
            </a:endParaRPr>
          </a:p>
        </p:txBody>
      </p:sp>
      <p:sp>
        <p:nvSpPr>
          <p:cNvPr id="11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a:t>
            </a:r>
            <a:r>
              <a:rPr b="0" lang="en-US" sz="2800" spc="-1" strike="noStrike" u="sng">
                <a:solidFill>
                  <a:srgbClr val="f4d1c8"/>
                </a:solidFill>
                <a:uFillTx/>
                <a:latin typeface="Verdana"/>
                <a:hlinkClick r:id="rId2"/>
              </a:rPr>
              <a:t>United States</a:t>
            </a:r>
            <a:r>
              <a:rPr b="0" lang="en-US" sz="2800" spc="-1" strike="noStrike">
                <a:solidFill>
                  <a:srgbClr val="ffffff"/>
                </a:solidFill>
                <a:latin typeface="Verdana"/>
              </a:rPr>
              <a:t> </a:t>
            </a:r>
            <a:r>
              <a:rPr b="1" lang="en-US" sz="2800" spc="-1" strike="noStrike">
                <a:solidFill>
                  <a:srgbClr val="ffffff"/>
                </a:solidFill>
                <a:latin typeface="Verdana"/>
              </a:rPr>
              <a:t>White-Slave Traffic Act</a:t>
            </a:r>
            <a:r>
              <a:rPr b="0" lang="en-US" sz="2800" spc="-1" strike="noStrike">
                <a:solidFill>
                  <a:srgbClr val="ffffff"/>
                </a:solidFill>
                <a:latin typeface="Verdana"/>
              </a:rPr>
              <a:t> of 1910 (ch. 395, 36 Stat. 825; codified as amended at 18 U.S.C. § 2421–2424) prohibited white slavery. It also banned the interstate transport of females for “immoral purposes.” Its primary stated intent was to address prostitution, immorality, and human trafficking. The act is better known as the </a:t>
            </a:r>
            <a:r>
              <a:rPr b="1" lang="en-US" sz="2800" spc="-1" strike="noStrike">
                <a:solidFill>
                  <a:srgbClr val="ffffff"/>
                </a:solidFill>
                <a:latin typeface="Verdana"/>
              </a:rPr>
              <a:t>Mann Act,</a:t>
            </a:r>
            <a:r>
              <a:rPr b="0" lang="en-US" sz="2800" spc="-1" strike="noStrike">
                <a:solidFill>
                  <a:srgbClr val="ffffff"/>
                </a:solidFill>
                <a:latin typeface="Verdana"/>
              </a:rPr>
              <a:t> after James Robert Mann, an American lawmaker. </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urce: wikipedia.co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disappeared, which violated his parole and a bench warrant was issued, an April 1960 indictment on violation of the Mann Act was placed on Manson</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arrested in Laredo, TX when one of his “girls” was picked up on prostitution charge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ordered to serve the remainder of his 10 year sentence for his check fraud charg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July 1961, he was transferred from the Los Angeles County Jail to the United States Penitentiary at McNeil Islan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his annual parole hearing in September 1961, he was noted as having “a tremendous drive to call attention to himself”</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1963, Leona, one of his girls, was granted a divorce in the pursuit of which she alleged  her and Manson had a child, Charles Lu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une 1966, in preparation for early release, he was sent back to Terminal Island</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March 21, 1967, his release date, he had spent more than half of his 32 years of life in prison</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lling police that prison was “my home” he was not granted permission to sta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his release day, and with the help of a prison acquaintance, he moved into an apartment in Berkeley, CA</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moving in with Mary Brunner, a 23 year old University of Wisconsin-Madison grad student, who was an assistant librarian at UC Berkeley he began to bring home several women per da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runner eventually adapted after 18 women became their roommate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rles Milles Manson</a:t>
            </a:r>
            <a:endParaRPr b="0" lang="en-US" sz="4000" spc="-1" strike="noStrike">
              <a:solidFill>
                <a:srgbClr val="ffffff"/>
              </a:solidFill>
              <a:latin typeface="Arial"/>
            </a:endParaRPr>
          </a:p>
        </p:txBody>
      </p:sp>
      <p:sp>
        <p:nvSpPr>
          <p:cNvPr id="8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orn November 12, 1934</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merican criminal who led a cultic commune in California in the mid to late 1960s in California</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Manson Family</a:t>
            </a:r>
            <a:endParaRPr b="0" lang="en-US" sz="28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nd guilty of conspiracy to commit murde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began to establish himself in the “hippie” movement of 1967</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began to follow the Church of Scientology</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persuaded a large group of females and a few males that he was a called leader in Scientolog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fore the end of that summer. Manson had convinced 8 or 9 enthusiasts to join him on a cross country road trip</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alternative account does not mention the 18 roommates, but does account for the road trip</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s strange behavior began in spring of 1968</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ennis Wilson of the Beach Boys picked up a couple of the “Manson Girl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llowing a night recording session, Wilson returned home to see Manson standing in his drivewa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insisted that he meant Wilson no harm, but fell to the ground and kissed Wilson’s fee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side the house, Wilson discovered 12 strange women</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ver the next few months, the number of women doubled</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new “Family Members” cost Wilson $100,000 </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included a medical bill for their treatment of Gonorrhea</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21,000 for accidental destruction of an uninsured ca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ilson returned to the studio to record some of Manson’s music and introduced him to some very important people for this case:</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gg Jakobson – a music producer</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rry Melcher – a musician</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on Tate – an actress</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Roman Polanski – a directo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August 1968, Wilson had his management clear all of the “family” from his house</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has established a base for the “family” at Spahn’s Move Ranch</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paid the rent for the place by using his girls to sexually appease the blind owner of the ranch</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family was soon joined by Charles Watson, a man who met Manson at Wilson’s hou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s family moved on to a new location at Meyer’s ranch</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some time, Manson had been predicting the rise in racial tensions of the late 1960s</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had emphasized that Martin Luther King Jr would be assassinated</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a bitterly cold New Year’s Eve, Manson convinced that not only he had predicted the racism, but the Beatles </a:t>
            </a:r>
            <a:r>
              <a:rPr b="0" i="1" lang="en-US" sz="2400" spc="-1" strike="noStrike">
                <a:solidFill>
                  <a:srgbClr val="ffffff"/>
                </a:solidFill>
                <a:latin typeface="Verdana"/>
              </a:rPr>
              <a:t>White Album</a:t>
            </a:r>
            <a:r>
              <a:rPr b="0" lang="en-US" sz="2400" spc="-1" strike="noStrike">
                <a:solidFill>
                  <a:srgbClr val="ffffff"/>
                </a:solidFill>
                <a:latin typeface="Verdana"/>
              </a:rPr>
              <a:t> also predicted the racism in code</a:t>
            </a:r>
            <a:endParaRPr b="0" lang="en-US" sz="2400" spc="-1" strike="noStrike">
              <a:solidFill>
                <a:srgbClr val="ffffff"/>
              </a:solidFill>
              <a:latin typeface="Verdana"/>
            </a:endParaRPr>
          </a:p>
          <a:p>
            <a:pPr marL="343080" indent="-34308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maintained that the album was written for the family and that they were an elect group instructed to preserve themselves from impending disas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January 1969, the group moved into a canary yellow house in Canoga Park, CA…not far from Spahn Ranch</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son called the house the yellow submarine, yet another Beatles referenc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family members prepared for “Helter Skelter”, Manson’s predicted apocalyps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February, Manson’s vision was complet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acial Tensions escalated and his predictions came tru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mors flied that Terry Melcher was to come to the Yellow Submarine to hear the music Manson had written about his vision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e Never Arriv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rch 23, 1969</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broke and entered 10050 Cielo Drive, the home of Terry Melcher</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lcher had moved into a new residence, so the home was occupied by Sharon Tate and Roman Polanski</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questioned a Tate photographer and insisted that he enter the guest hous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nformed prosecutors that Manson had visited the house since the exit of Melch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lter Skelter</a:t>
            </a:r>
            <a:endParaRPr b="0" lang="en-US" sz="4000" spc="-1" strike="noStrike">
              <a:solidFill>
                <a:srgbClr val="ffffff"/>
              </a:solidFill>
              <a:latin typeface="Arial"/>
            </a:endParaRPr>
          </a:p>
        </p:txBody>
      </p:sp>
      <p:sp>
        <p:nvSpPr>
          <p:cNvPr id="8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term he took from the Beatles’ song with that same name and used as a term to describe his “apocalyptic race war”</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connection with rock music linked him with pop culture as he became the epitome of insanity</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fore the conviction he mooched around with celebrities such as Dennis Wilson of the Beach Boys and wrote songs for Artists such as Guns N’ Roses and Marilyn Mans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2"/>
          <p:cNvSpPr>
            <a:spLocks noGrp="1"/>
          </p:cNvSpPr>
          <p:nvPr>
            <p:ph/>
          </p:nvPr>
        </p:nvSpPr>
        <p:spPr>
          <a:xfrm>
            <a:off x="4648320" y="1483920"/>
            <a:ext cx="4100400" cy="4969080"/>
          </a:xfrm>
          <a:prstGeom prst="rect">
            <a:avLst/>
          </a:prstGeom>
          <a:noFill/>
          <a:ln w="0">
            <a:noFill/>
          </a:ln>
        </p:spPr>
        <p:txBody>
          <a:bodyPr lIns="90000" rIns="90000" tIns="46800" bIns="46800" anchor="t">
            <a:normAutofit/>
          </a:bodyPr>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Polanksi guest recognized Manson from Wilson’s hom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complimented Manson’s music</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43" name="" descr=""/>
          <p:cNvPicPr/>
          <p:nvPr/>
        </p:nvPicPr>
        <p:blipFill>
          <a:blip r:embed="rId2"/>
          <a:stretch/>
        </p:blipFill>
        <p:spPr>
          <a:xfrm>
            <a:off x="533520" y="1981080"/>
            <a:ext cx="4343400" cy="337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owe and Hinman Murders</a:t>
            </a:r>
            <a:endParaRPr b="0" lang="en-US" sz="4000" spc="-1" strike="noStrike">
              <a:solidFill>
                <a:srgbClr val="ffffff"/>
              </a:solidFill>
              <a:latin typeface="Arial"/>
            </a:endParaRPr>
          </a:p>
        </p:txBody>
      </p:sp>
      <p:sp>
        <p:nvSpPr>
          <p:cNvPr id="14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y 18, 1969</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lcher visited Spahn Ranch to hear Manson and the family perform</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 June, Manson had began to tell the family to show blacks Helter Skelter</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Manson asked Watson to raise $ for the assault, he defrauded a black drug dealer, Bernard “Lotsapoppa” Crowe</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owe responded with a threat to wipe out all of the Spahn Ranch</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 Responded with the shooting of Crowe on July 1, 1969 in his Hollywood apartm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July 25, 1969</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sent three family members to the home of Gary Hinman</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nman was suspected of inheriting some mone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nted all of the money, but Hinman refused to turn it over to the family members</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slashed his ear and family member, Bobby Beausoleil stabbed Hinman to deat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eausoleil was arrested on August 6, 1969 after being caught driving Hinman’s car</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ugust 8</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instructed Watson to take three family members to the old Melcher home and…</a:t>
            </a:r>
            <a:endParaRPr b="0" lang="en-US" sz="28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totally destroy everyone in [it], as gruesome as you can”</a:t>
            </a:r>
            <a:endParaRPr b="0" lang="en-US" sz="24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told the girls that they were to do just as Watson instruc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ate Slaughter</a:t>
            </a:r>
            <a:endParaRPr b="0" lang="en-US" sz="4000" spc="-1" strike="noStrike">
              <a:solidFill>
                <a:srgbClr val="ffffff"/>
              </a:solidFill>
              <a:latin typeface="Arial"/>
            </a:endParaRPr>
          </a:p>
        </p:txBody>
      </p:sp>
      <p:sp>
        <p:nvSpPr>
          <p:cNvPr id="15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ictims</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8 year old innocent driver – Steven Parent</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ojciech Frykowski</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aron Tate – 8 months pregnant</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y Sebring – father to Tate’s bab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bigail Folger – heiress to the Folger’s Coffee franchise</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olanski was in London shooting a fil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night later</a:t>
            </a:r>
            <a:endParaRPr b="0" lang="en-US" sz="32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and 6 family members ended up at 3301 Waverly Dr, the home of Leno LaBianca, a grocery store executive, and his wife Rosemary</a:t>
            </a:r>
            <a:endParaRPr b="0" lang="en-US" sz="28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a bayonet, Manson killed Leno on his couch</a:t>
            </a:r>
            <a:endParaRPr b="0" lang="en-US" sz="2800" spc="-1" strike="noStrike">
              <a:solidFill>
                <a:srgbClr val="ffffff"/>
              </a:solidFill>
              <a:latin typeface="Verdana"/>
            </a:endParaRPr>
          </a:p>
          <a:p>
            <a:pPr lvl="2" marL="1143000" indent="-228600">
              <a:lnSpc>
                <a:spcPct val="90000"/>
              </a:lnSpc>
              <a:spcBef>
                <a:spcPts val="60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atson carved “WAR” on Leno’s exposed abdomen</a:t>
            </a:r>
            <a:endParaRPr b="0" lang="en-US" sz="2400" spc="-1" strike="noStrike">
              <a:solidFill>
                <a:srgbClr val="ffffff"/>
              </a:solidFill>
              <a:latin typeface="Verdana"/>
            </a:endParaRPr>
          </a:p>
          <a:p>
            <a:pPr lvl="1" marL="743040" indent="-28584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osemary was stabbed by all three girls involved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haron Tate Pictures</a:t>
            </a:r>
            <a:endParaRPr b="0" lang="en-US" sz="4000" spc="-1" strike="noStrike">
              <a:solidFill>
                <a:srgbClr val="ffffff"/>
              </a:solidFill>
              <a:latin typeface="Arial"/>
            </a:endParaRPr>
          </a:p>
        </p:txBody>
      </p:sp>
      <p:pic>
        <p:nvPicPr>
          <p:cNvPr id="155" name="" descr=""/>
          <p:cNvPicPr/>
          <p:nvPr/>
        </p:nvPicPr>
        <p:blipFill>
          <a:blip r:embed="rId2"/>
          <a:stretch/>
        </p:blipFill>
        <p:spPr>
          <a:xfrm>
            <a:off x="533520" y="1447920"/>
            <a:ext cx="2857320" cy="3533760"/>
          </a:xfrm>
          <a:prstGeom prst="rect">
            <a:avLst/>
          </a:prstGeom>
          <a:ln w="0">
            <a:noFill/>
          </a:ln>
        </p:spPr>
      </p:pic>
      <p:pic>
        <p:nvPicPr>
          <p:cNvPr id="156" name="" descr=""/>
          <p:cNvPicPr/>
          <p:nvPr/>
        </p:nvPicPr>
        <p:blipFill>
          <a:blip r:embed="rId3"/>
          <a:stretch/>
        </p:blipFill>
        <p:spPr>
          <a:xfrm>
            <a:off x="3505320" y="1447920"/>
            <a:ext cx="2666880" cy="4305240"/>
          </a:xfrm>
          <a:prstGeom prst="rect">
            <a:avLst/>
          </a:prstGeom>
          <a:ln w="0">
            <a:noFill/>
          </a:ln>
        </p:spPr>
      </p:pic>
      <p:pic>
        <p:nvPicPr>
          <p:cNvPr id="157" name="" descr=""/>
          <p:cNvPicPr/>
          <p:nvPr/>
        </p:nvPicPr>
        <p:blipFill>
          <a:blip r:embed="rId4"/>
          <a:stretch/>
        </p:blipFill>
        <p:spPr>
          <a:xfrm>
            <a:off x="6324480" y="1447920"/>
            <a:ext cx="2362320" cy="3504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Bianca Pictures</a:t>
            </a:r>
            <a:endParaRPr b="0" lang="en-US" sz="4000" spc="-1" strike="noStrike">
              <a:solidFill>
                <a:srgbClr val="ffffff"/>
              </a:solidFill>
              <a:latin typeface="Arial"/>
            </a:endParaRPr>
          </a:p>
        </p:txBody>
      </p:sp>
      <p:pic>
        <p:nvPicPr>
          <p:cNvPr id="159" name="" descr=""/>
          <p:cNvPicPr/>
          <p:nvPr/>
        </p:nvPicPr>
        <p:blipFill>
          <a:blip r:embed="rId2"/>
          <a:stretch/>
        </p:blipFill>
        <p:spPr>
          <a:xfrm>
            <a:off x="380880" y="1523880"/>
            <a:ext cx="3543480" cy="2409840"/>
          </a:xfrm>
          <a:prstGeom prst="rect">
            <a:avLst/>
          </a:prstGeom>
          <a:ln w="0">
            <a:noFill/>
          </a:ln>
        </p:spPr>
      </p:pic>
      <p:pic>
        <p:nvPicPr>
          <p:cNvPr id="160" name="" descr=""/>
          <p:cNvPicPr/>
          <p:nvPr/>
        </p:nvPicPr>
        <p:blipFill>
          <a:blip r:embed="rId3"/>
          <a:stretch/>
        </p:blipFill>
        <p:spPr>
          <a:xfrm>
            <a:off x="2286000" y="4114800"/>
            <a:ext cx="4791240" cy="2743200"/>
          </a:xfrm>
          <a:prstGeom prst="rect">
            <a:avLst/>
          </a:prstGeom>
          <a:ln w="0">
            <a:noFill/>
          </a:ln>
        </p:spPr>
      </p:pic>
      <p:pic>
        <p:nvPicPr>
          <p:cNvPr id="161" name="" descr=""/>
          <p:cNvPicPr/>
          <p:nvPr/>
        </p:nvPicPr>
        <p:blipFill>
          <a:blip r:embed="rId4"/>
          <a:stretch/>
        </p:blipFill>
        <p:spPr>
          <a:xfrm>
            <a:off x="4800600" y="1523880"/>
            <a:ext cx="3848040" cy="236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vestigation</a:t>
            </a:r>
            <a:endParaRPr b="0" lang="en-US" sz="4000" spc="-1" strike="noStrike">
              <a:solidFill>
                <a:srgbClr val="ffffff"/>
              </a:solidFill>
              <a:latin typeface="Arial"/>
            </a:endParaRPr>
          </a:p>
        </p:txBody>
      </p:sp>
      <p:sp>
        <p:nvSpPr>
          <p:cNvPr id="16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PD found bloody writing on the wall of the Hinman Hom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y even mentioned that Beausoleil was a member of a group of hippies led by a guy named “Charlie”</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investigation team for the Tate murders thought that the murder was simply a drug case and ignored LAPD’s war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iam Garretson, the resident of the Tate guest house, was held briefly as a suspect</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released on August 11, 1969 after passing a polygraph test</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August 12, 1969 LAPD informed the press that there was NO connection between the LaBianca and Tate murders</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ugust 16</a:t>
            </a:r>
            <a:r>
              <a:rPr b="0" lang="en-US" sz="2800" spc="-1" strike="noStrike" baseline="30000">
                <a:solidFill>
                  <a:srgbClr val="ffffff"/>
                </a:solidFill>
                <a:latin typeface="Verdana"/>
              </a:rPr>
              <a:t>th</a:t>
            </a:r>
            <a:r>
              <a:rPr b="0" lang="en-US" sz="2800" spc="-1" strike="noStrike">
                <a:solidFill>
                  <a:srgbClr val="ffffff"/>
                </a:solidFill>
                <a:latin typeface="Verdana"/>
              </a:rPr>
              <a:t>, Manson and 25 family members were arrested on auto theft charges, but due to a misdated warrant they were released a few days later</a:t>
            </a:r>
            <a:endParaRPr b="0" lang="en-US" sz="2800" spc="-1" strike="noStrike">
              <a:solidFill>
                <a:srgbClr val="ffffff"/>
              </a:solidFill>
              <a:latin typeface="Verdana"/>
            </a:endParaRPr>
          </a:p>
          <a:p>
            <a:pPr lvl="1" marL="743040" indent="-28584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apons were seized during the arres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ly Life</a:t>
            </a:r>
            <a:endParaRPr b="0" lang="en-US" sz="4000" spc="-1" strike="noStrike">
              <a:solidFill>
                <a:srgbClr val="ffffff"/>
              </a:solidFill>
              <a:latin typeface="Arial"/>
            </a:endParaRPr>
          </a:p>
        </p:txBody>
      </p:sp>
      <p:sp>
        <p:nvSpPr>
          <p:cNvPr id="8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orn to unwed 16 year old Kathleen Maddox in Cincinnati, OH as “no name Maddox”</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r a period during his childhood, his mother was married to William Manson and was named then</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mother sold him to a childless bar maid for a pitcher of beer</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an attempt to place him in foster home, the court placed him into Gibault School for Boys in Indiana…he fled there back to his mother who rejected hi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y the end of August, the Tate team made a connection between bloody writing at the LaBianca house and the Beatles</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 mid-October, the LaBianca team learned of the Hinman case</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led them to Meyers Ranch and another arrest of Manson and several family members on yet another suto theft charg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e of Manson’s 18 roommates from UC Berkeley informed police of the connection between the murder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December 1, 1969 – Watson, and two other family members were arrested for the Tate case</a:t>
            </a:r>
            <a:endParaRPr b="0" lang="en-US" sz="28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other family member located in Mobile, AL surrendered to police in Concord, NH on December 2</a:t>
            </a:r>
            <a:endParaRPr b="0" lang="en-US" sz="24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rrest was sparked by the reception of the .22 caliber gun used by Watson on Parent, Sebring, and Frykowski</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1"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local ABC television crew discovered the bloody clothes from the Tate case, but the knives are still miss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2" name="" descr=""/>
          <p:cNvPicPr/>
          <p:nvPr/>
        </p:nvPicPr>
        <p:blipFill>
          <a:blip r:embed="rId2"/>
          <a:stretch/>
        </p:blipFill>
        <p:spPr>
          <a:xfrm>
            <a:off x="4952880" y="2743200"/>
            <a:ext cx="3610080" cy="3238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Trial</a:t>
            </a:r>
            <a:endParaRPr b="0" lang="en-US" sz="4000" spc="-1" strike="noStrike">
              <a:solidFill>
                <a:srgbClr val="ffffff"/>
              </a:solidFill>
              <a:latin typeface="Arial"/>
            </a:endParaRPr>
          </a:p>
        </p:txBody>
      </p:sp>
      <p:sp>
        <p:nvSpPr>
          <p:cNvPr id="174"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une 15, 1970</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asabian, a family member, was granted immunity to release information related to the crimes</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nson’s request to act as his own attorney was denied by the court just days before the trial began</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Friday, July 24</a:t>
            </a:r>
            <a:r>
              <a:rPr b="0" lang="en-US" sz="2400" spc="-1" strike="noStrike" baseline="30000">
                <a:solidFill>
                  <a:srgbClr val="ffffff"/>
                </a:solidFill>
                <a:latin typeface="Verdana"/>
              </a:rPr>
              <a:t>th</a:t>
            </a:r>
            <a:r>
              <a:rPr b="0" lang="en-US" sz="2400" spc="-1" strike="noStrike">
                <a:solidFill>
                  <a:srgbClr val="ffffff"/>
                </a:solidFill>
                <a:latin typeface="Verdana"/>
              </a:rPr>
              <a:t>, testimony began</a:t>
            </a:r>
            <a:endParaRPr b="0" lang="en-US" sz="2400" spc="-1" strike="noStrike">
              <a:solidFill>
                <a:srgbClr val="ffffff"/>
              </a:solidFill>
              <a:latin typeface="Verdana"/>
            </a:endParaRPr>
          </a:p>
          <a:p>
            <a:pPr lvl="2" marL="1143000" indent="-228600">
              <a:spcBef>
                <a:spcPts val="499"/>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son appeared in court with an X carved into his forehead</a:t>
            </a:r>
            <a:endParaRPr b="0" lang="en-US" sz="2000" spc="-1" strike="noStrike">
              <a:solidFill>
                <a:srgbClr val="ffffff"/>
              </a:solidFill>
              <a:latin typeface="Verdana"/>
            </a:endParaRPr>
          </a:p>
          <a:p>
            <a:pPr lvl="3" marL="1600200" indent="-228600">
              <a:spcBef>
                <a:spcPts val="45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 claimed that he was “considered inadequate and incompetent to speak or defend self – and had ‘X’d self from worl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6"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ver the weekend, family members carved the same X symbols into their forehead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admitted to one mistake in his effort to cause “Helter Skelter”</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 failed to deposit Rosemary LaBianca’s wallet into the streets of a black neighborhood to frame an LA gang</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wallet was instead left in the bathroom of a gas station in a black neighborhood…to “show blackie how to do 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8"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mily members haunted the halls of the courthouse throughout the murder</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 prevent this from continuing, prosecution subpoenaed them as prospective witnesses</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y then moved outside carrying visible hunting knives and X’s on their foreheads</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 October 5</a:t>
            </a:r>
            <a:r>
              <a:rPr b="0" lang="en-US" sz="2400" spc="-1" strike="noStrike" baseline="30000">
                <a:solidFill>
                  <a:srgbClr val="ffffff"/>
                </a:solidFill>
                <a:latin typeface="Verdana"/>
              </a:rPr>
              <a:t>th</a:t>
            </a:r>
            <a:r>
              <a:rPr b="0" lang="en-US" sz="2400" spc="-1" strike="noStrike">
                <a:solidFill>
                  <a:srgbClr val="ffffff"/>
                </a:solidFill>
                <a:latin typeface="Verdana"/>
              </a:rPr>
              <a:t>, the judge refused allow suspension of cross-examination of a witness to which Manson responded with a physical assault of the Judge</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Judge returned to court for the remainder of the trial with a revolver under his ro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November 19, the prosecution rested…and to the shock of the court, the defense rested as well without ever calling a witness</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s allowed to speak to the judge but without the presence of the jury to prevent violation of CA Supreme Court decision on People v. Aranda</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told the judge</a:t>
            </a:r>
            <a:endParaRPr b="0" lang="en-US" sz="2800" spc="-1" strike="noStrike">
              <a:solidFill>
                <a:srgbClr val="ffffff"/>
              </a:solidFill>
              <a:latin typeface="Verdana"/>
            </a:endParaRPr>
          </a:p>
          <a:p>
            <a:pPr lvl="1" marL="743040" indent="-28584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the music is telling the youth to rise up against the establishment…Why blame it on me? I don’t write the musi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2"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January 25, 1971</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uilty verdict was presented to Manson, Krenwinkel and Atkins</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an Houten was convicted of two counts of murder and one count of conspiracy</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idways through the penalty phase, Manson shaved his head and trimmed his beard to a fork saying “I am the devil, the devil always has a bald head”</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ce the jury began to consider the death penalty, the female family members all shaved their head as well</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3" name="" descr=""/>
          <p:cNvPicPr/>
          <p:nvPr/>
        </p:nvPicPr>
        <p:blipFill>
          <a:blip r:embed="rId2"/>
          <a:stretch/>
        </p:blipFill>
        <p:spPr>
          <a:xfrm>
            <a:off x="1371600" y="304920"/>
            <a:ext cx="3048120" cy="2322360"/>
          </a:xfrm>
          <a:prstGeom prst="rect">
            <a:avLst/>
          </a:prstGeom>
          <a:ln w="0">
            <a:noFill/>
          </a:ln>
        </p:spPr>
      </p:pic>
      <p:pic>
        <p:nvPicPr>
          <p:cNvPr id="184" name="" descr=""/>
          <p:cNvPicPr/>
          <p:nvPr/>
        </p:nvPicPr>
        <p:blipFill>
          <a:blip r:embed="rId3"/>
          <a:stretch/>
        </p:blipFill>
        <p:spPr>
          <a:xfrm>
            <a:off x="4876920" y="1905120"/>
            <a:ext cx="2752560" cy="3276360"/>
          </a:xfrm>
          <a:prstGeom prst="rect">
            <a:avLst/>
          </a:prstGeom>
          <a:ln w="0">
            <a:noFill/>
          </a:ln>
        </p:spPr>
      </p:pic>
      <p:pic>
        <p:nvPicPr>
          <p:cNvPr id="185" name="" descr=""/>
          <p:cNvPicPr/>
          <p:nvPr/>
        </p:nvPicPr>
        <p:blipFill>
          <a:blip r:embed="rId4"/>
          <a:stretch/>
        </p:blipFill>
        <p:spPr>
          <a:xfrm>
            <a:off x="1447920" y="2819520"/>
            <a:ext cx="301932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7"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n March 29, 1971 – Jury returned with the death sentence on all 4 defendants on all counts</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pril 19 – Judge sentenced all defendants to death by injection</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8" name="" descr=""/>
          <p:cNvPicPr/>
          <p:nvPr/>
        </p:nvPicPr>
        <p:blipFill>
          <a:blip r:embed="rId2"/>
          <a:stretch/>
        </p:blipFill>
        <p:spPr>
          <a:xfrm>
            <a:off x="5257800" y="1600200"/>
            <a:ext cx="2952720" cy="2238480"/>
          </a:xfrm>
          <a:prstGeom prst="rect">
            <a:avLst/>
          </a:prstGeom>
          <a:ln w="9360">
            <a:solidFill>
              <a:srgbClr val="000000"/>
            </a:solidFill>
            <a:miter/>
          </a:ln>
        </p:spPr>
      </p:pic>
      <p:pic>
        <p:nvPicPr>
          <p:cNvPr id="189" name="" descr=""/>
          <p:cNvPicPr/>
          <p:nvPr/>
        </p:nvPicPr>
        <p:blipFill>
          <a:blip r:embed="rId3"/>
          <a:stretch/>
        </p:blipFill>
        <p:spPr>
          <a:xfrm>
            <a:off x="5638680" y="3276720"/>
            <a:ext cx="2305080" cy="2743200"/>
          </a:xfrm>
          <a:prstGeom prst="rect">
            <a:avLst/>
          </a:prstGeom>
          <a:ln w="1584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y burgling a grocery store, Manson stole cash and enabled him to rent a room</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eventually caught in the act of stealing a bicycle and was returned to a juvenile center in Indiana</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escaped there four days later with another inmate</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air committed two armed robberies on their way to the other boy’s unc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1"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February 1972, Supreme Court of California revoked the death penalty and all parties charges were dropped to life in prison</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 was also found to be guilty of the murders of Gary Hinman and Donald Shea and received life sentences for both murders</a:t>
            </a:r>
            <a:endParaRPr b="0" lang="en-US" sz="2800" spc="-1" strike="noStrike">
              <a:solidFill>
                <a:srgbClr val="ffffff"/>
              </a:solidFill>
              <a:latin typeface="Verdana"/>
            </a:endParaRPr>
          </a:p>
          <a:p>
            <a:pPr marL="343080" indent="-343080">
              <a:lnSpc>
                <a:spcPct val="8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anson’s mother made a statement following these sentences</a:t>
            </a:r>
            <a:endParaRPr b="0" lang="en-US" sz="2800" spc="-1" strike="noStrike">
              <a:solidFill>
                <a:srgbClr val="ffffff"/>
              </a:solidFill>
              <a:latin typeface="Verdana"/>
            </a:endParaRPr>
          </a:p>
          <a:p>
            <a:pPr lvl="1" marL="743040" indent="-285840">
              <a:lnSpc>
                <a:spcPct val="8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t>
            </a:r>
            <a:r>
              <a:rPr b="0" lang="en-US" sz="2400" spc="-1" strike="noStrike">
                <a:solidFill>
                  <a:srgbClr val="ffffff"/>
                </a:solidFill>
                <a:latin typeface="Verdana"/>
              </a:rPr>
              <a:t>my son had known no neglect, he had even been pampered by all the women who surrounded hi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ptember 5, 1975 – the family exploded back into the spotlight with an assassination attempt on President Gerald Ford</a:t>
            </a:r>
            <a:endParaRPr b="0" lang="en-US" sz="3200" spc="-1" strike="noStrike">
              <a:solidFill>
                <a:srgbClr val="ffffff"/>
              </a:solidFill>
              <a:latin typeface="Verdana"/>
            </a:endParaRPr>
          </a:p>
          <a:p>
            <a:pPr marL="343080" indent="-343080">
              <a:lnSpc>
                <a:spcPct val="90000"/>
              </a:lnSpc>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queaky Fromme, the assassin, was sentenced 15 years to life, the first person sentenced under US Code Title 18 Chapter 84 which made it federal offense to attempt an assassination of the US Presid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ogan, a family member responsible for the death of Shorty Shea, was the only member to date to be paroled</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the 1980s, Manson gave three notable TV interviews about the murders, where he came clean on all accounts</a:t>
            </a:r>
            <a:endParaRPr b="0" lang="en-US" sz="28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ost notably, March 7, 1986: Charlie Rose for CBS Nightwatch – won an Emmy Award for best interview</a:t>
            </a:r>
            <a:endParaRPr b="0" lang="en-US" sz="2400" spc="-1" strike="noStrike">
              <a:solidFill>
                <a:srgbClr val="ffffff"/>
              </a:solidFill>
              <a:latin typeface="Verdana"/>
            </a:endParaRPr>
          </a:p>
          <a:p>
            <a:pPr lvl="1" marL="743040" indent="-285840">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so, Geraldo Rivera interviewed him in 1988 for a  special on Satanism</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7"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1994, Catherine Share, a family member told the press that her testimony was completely fabricated as per the instruction on Manson to save him from the Gas Chamber</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anuary 1996, Manson follower George Stimson founded a Manson website proclaiming Manson’s innocence</a:t>
            </a:r>
            <a:endParaRPr b="0" lang="en-US" sz="2400" spc="-1" strike="noStrike">
              <a:solidFill>
                <a:srgbClr val="ffffff"/>
              </a:solidFill>
              <a:latin typeface="Verdana"/>
            </a:endParaRPr>
          </a:p>
          <a:p>
            <a:pPr marL="343080" indent="-343080">
              <a:lnSpc>
                <a:spcPct val="90000"/>
              </a:lnSpc>
              <a:spcBef>
                <a:spcPts val="601"/>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ptember 2007, MSNBC aired the full 1997 interview with Manson from San Quentin State Prison</a:t>
            </a:r>
            <a:endParaRPr b="0" lang="en-US" sz="2400" spc="-1" strike="noStrike">
              <a:solidFill>
                <a:srgbClr val="ffffff"/>
              </a:solidFill>
              <a:latin typeface="Verdana"/>
            </a:endParaRPr>
          </a:p>
          <a:p>
            <a:pPr lvl="1" marL="743040" indent="-285840">
              <a:lnSpc>
                <a:spcPct val="90000"/>
              </a:lnSpc>
              <a:spcBef>
                <a:spcPts val="4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original interview only aired for 7 minutes due to the unruly an unapologetic behavior of Manson</a:t>
            </a:r>
            <a:endParaRPr b="0" lang="en-US" sz="2000" spc="-1" strike="noStrike">
              <a:solidFill>
                <a:srgbClr val="ffffff"/>
              </a:solidFill>
              <a:latin typeface="Verdana"/>
            </a:endParaRPr>
          </a:p>
          <a:p>
            <a:pPr lvl="2" marL="1143000" indent="-228600">
              <a:lnSpc>
                <a:spcPct val="90000"/>
              </a:lnSpc>
              <a:spcBef>
                <a:spcPts val="451"/>
              </a:spcBef>
              <a:buClr>
                <a:srgbClr val="d1800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s new release was the full interview…completely uncensored</a:t>
            </a:r>
            <a:endParaRPr b="0" lang="en-US" sz="1800" spc="-1" strike="noStrike">
              <a:solidFill>
                <a:srgbClr val="ffffff"/>
              </a:solidFill>
              <a:latin typeface="Verdana"/>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9"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rch 15, 2008 – AP reported that human remains had been found at Barker Ranch, one of the family home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 May 21, the investigation ended with no human remains located</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ught during the second of two more grocery store robberies, Manson was sent at the age of 13, to Indiana School for Boys</a:t>
            </a:r>
            <a:endParaRPr b="0" lang="en-US" sz="32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re he claimed to have been brutally sexually assaulted and physically abused</a:t>
            </a:r>
            <a:endParaRPr b="0" lang="en-US" sz="2800" spc="-1" strike="noStrike">
              <a:solidFill>
                <a:srgbClr val="ffffff"/>
              </a:solidFill>
              <a:latin typeface="Verdana"/>
            </a:endParaRPr>
          </a:p>
          <a:p>
            <a:pPr lvl="1" marL="743040" indent="-28584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fter near daily escape attempts, he finally escaped in 1951 with two other boy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caping to Utah, having robbed gas stations along the way, The three were caught on the way to California in stolen cars</a:t>
            </a:r>
            <a:endParaRPr b="0" lang="en-US" sz="3200" spc="-1" strike="noStrike">
              <a:solidFill>
                <a:srgbClr val="ffffff"/>
              </a:solidFill>
              <a:latin typeface="Verdana"/>
            </a:endParaRPr>
          </a:p>
          <a:p>
            <a:pPr marL="343080" indent="-343080">
              <a:spcBef>
                <a:spcPts val="799"/>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r this federal crime of taking a stolen car across state borders, the three were sent to The National Training School for Boys in Washington D.C.</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395280" y="1483920"/>
            <a:ext cx="4100400" cy="4969080"/>
          </a:xfrm>
          <a:prstGeom prst="rect">
            <a:avLst/>
          </a:prstGeom>
          <a:noFill/>
          <a:ln w="0">
            <a:noFill/>
          </a:ln>
        </p:spPr>
        <p:txBody>
          <a:bodyPr lIns="90000" rIns="90000" tIns="46800" bIns="46800" anchor="t">
            <a:normAutofit/>
          </a:bodyPr>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despite four years of schooling, Manson tested an average IQ of 109 (He was later tested at 121), but was still illiterate</a:t>
            </a:r>
            <a:endParaRPr b="0" lang="en-US" sz="2800" spc="-1" strike="noStrike">
              <a:solidFill>
                <a:srgbClr val="ffffff"/>
              </a:solidFill>
              <a:latin typeface="Verdana"/>
            </a:endParaRPr>
          </a:p>
          <a:p>
            <a:pPr marL="343080" indent="-343080">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is caseworker concluded that he was aggressively antisocial</a:t>
            </a:r>
            <a:endParaRPr b="0" lang="en-US" sz="2800" spc="-1" strike="noStrike">
              <a:solidFill>
                <a:srgbClr val="ffffff"/>
              </a:solidFill>
              <a:latin typeface="Verdana"/>
            </a:endParaRPr>
          </a:p>
        </p:txBody>
      </p:sp>
      <p:pic>
        <p:nvPicPr>
          <p:cNvPr id="98" name="" descr=""/>
          <p:cNvPicPr/>
          <p:nvPr/>
        </p:nvPicPr>
        <p:blipFill>
          <a:blip r:embed="rId2"/>
          <a:stretch/>
        </p:blipFill>
        <p:spPr>
          <a:xfrm>
            <a:off x="4800600" y="1600200"/>
            <a:ext cx="3695760" cy="47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5280" y="476280"/>
            <a:ext cx="835344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395280" y="1483920"/>
            <a:ext cx="8353440" cy="4969080"/>
          </a:xfrm>
          <a:prstGeom prst="rect">
            <a:avLst/>
          </a:prstGeom>
          <a:noFill/>
          <a:ln w="0">
            <a:noFill/>
          </a:ln>
        </p:spPr>
        <p:txBody>
          <a:bodyPr lIns="90000" rIns="90000" tIns="46800" bIns="46800" anchor="t">
            <a:normAutofit/>
          </a:bodyPr>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ess than one month before a parole hearing, Manson “took a razor blade and held it against another boy’s throat while he sodomized him”</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 was transferred to Federal Reformatory in Petersburg, VA</a:t>
            </a:r>
            <a:endParaRPr b="0" lang="en-US" sz="2800" spc="-1" strike="noStrike">
              <a:solidFill>
                <a:srgbClr val="ffffff"/>
              </a:solidFill>
              <a:latin typeface="Verdana"/>
            </a:endParaRPr>
          </a:p>
          <a:p>
            <a:pPr marL="343080" indent="-343080">
              <a:lnSpc>
                <a:spcPct val="90000"/>
              </a:lnSpc>
              <a:spcBef>
                <a:spcPts val="700"/>
              </a:spcBef>
              <a:buClr>
                <a:srgbClr val="d1800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n September of 1952, after being classified as “dangerous”, he was transferred again to Federal Reformatory in Chillicothe, OH where he became a “model citizen” and was granted parole in May of 1954</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9T01:37:46Z</dcterms:created>
  <dc:creator>Adam's Homepage</dc:creator>
  <dc:description/>
  <cp:keywords/>
  <dc:language>en-US</dc:language>
  <cp:lastModifiedBy>Adam's Homepage</cp:lastModifiedBy>
  <dcterms:modified xsi:type="dcterms:W3CDTF">2008-10-29T23:55:17Z</dcterms:modified>
  <cp:revision>10</cp:revision>
  <dc:subject/>
  <dc:title>Charles Mans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61033</vt:lpwstr>
  </property>
</Properties>
</file>